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907588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2C45-43A9-478F-B8A5-DA5720BDE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2920" y="990360"/>
            <a:ext cx="8997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2920" y="3769920"/>
            <a:ext cx="8997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CC7C-84CB-4AE8-82EB-7C82A5FF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2920" y="99036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23800" y="99036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2920" y="376992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23800" y="376992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7BE5-A71C-452A-8CA0-C12D0AFEB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2920" y="990360"/>
            <a:ext cx="2896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54920" y="990360"/>
            <a:ext cx="2896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97280" y="990360"/>
            <a:ext cx="2896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2920" y="3769920"/>
            <a:ext cx="2896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54920" y="3769920"/>
            <a:ext cx="2896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97280" y="3769920"/>
            <a:ext cx="2896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85FC-2A68-4E39-B57F-40BCD8110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EAAD-74E4-4586-995C-41666545B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12920" y="990360"/>
            <a:ext cx="899784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E137-22A9-4DF5-8CB0-B118681B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2920" y="990360"/>
            <a:ext cx="89978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42DA-9DC9-40F7-8E03-A41761FC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2920" y="990360"/>
            <a:ext cx="4390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23800" y="990360"/>
            <a:ext cx="4390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1BED5-C588-4203-A944-EC51DBC3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B90C-D055-4651-B7B6-3DC6B7DC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2920" y="151920"/>
            <a:ext cx="75945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6EBD-66C8-4889-BEF0-5CCB087A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2920" y="99036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23800" y="990360"/>
            <a:ext cx="4390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2920" y="376992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D09C-EC26-48ED-B253-3D372E36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2920" y="990360"/>
            <a:ext cx="899784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A0F4-427D-40D9-B155-50B67937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2920" y="990360"/>
            <a:ext cx="4390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23800" y="99036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3800" y="376992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2223-7031-47CE-BC81-FDAB1D37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2920" y="99036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3800" y="99036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12920" y="3769920"/>
            <a:ext cx="8997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EEAC-CF78-468A-B04E-F54B268C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2920" y="990360"/>
            <a:ext cx="8997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2920" y="3769920"/>
            <a:ext cx="8997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9A6B-B81C-4638-8543-31B51094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2920" y="99036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23800" y="99036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12920" y="376992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23800" y="376992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5F351-E345-4B18-A06E-80BF5C156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2920" y="990360"/>
            <a:ext cx="2896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54920" y="990360"/>
            <a:ext cx="2896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97280" y="990360"/>
            <a:ext cx="2896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12920" y="3769920"/>
            <a:ext cx="2896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54920" y="3769920"/>
            <a:ext cx="2896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97280" y="3769920"/>
            <a:ext cx="2896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7AA3-979F-4B6F-A50C-35FA14184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2920" y="990360"/>
            <a:ext cx="89978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BCC5-ECD3-4C69-AF27-12235623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2920" y="990360"/>
            <a:ext cx="4390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23800" y="990360"/>
            <a:ext cx="4390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0CDB-C658-47B3-8239-3D586CDD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F45F-06BF-4D27-9097-E4CBA328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2920" y="151920"/>
            <a:ext cx="75945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06D5-A97B-498A-B865-F46BB7C4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2920" y="99036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23800" y="990360"/>
            <a:ext cx="4390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2920" y="376992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0318-8B32-4AB1-8FBD-6E108A82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2920" y="990360"/>
            <a:ext cx="4390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23800" y="99036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23800" y="376992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0815-25DC-44FA-BEFC-2903B5D6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2920" y="99036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3800" y="990360"/>
            <a:ext cx="4390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2920" y="3769920"/>
            <a:ext cx="8997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56C9-D947-4504-BC21-93925FB5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2920" y="990360"/>
            <a:ext cx="89978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9536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019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2968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81F6-442C-47BA-9B9C-740D8B78284B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03200" y="6481800"/>
            <a:ext cx="54864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BenQ Confidential (13/1/2006) </a:t>
            </a:r>
            <a:r>
              <a:rPr b="1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12920" y="990360"/>
            <a:ext cx="89978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3019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42968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3234-2846-4D43-A358-09B88ABDD8F0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200" y="6481800"/>
            <a:ext cx="54864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BenQ Confidential (13/1/2006) </a:t>
            </a:r>
            <a:r>
              <a:rPr b="1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60520" y="2349000"/>
            <a:ext cx="69134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Management Update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January 27th, 2006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Brand launch – translate the positive recognition from the outside to the insid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15800" y="1360080"/>
            <a:ext cx="9097920" cy="39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First time two press events were held simultaneously on two continents: Berlin/Europe &amp; Beijing/Asia, with live-streaming for global audience internally and externally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With an estimated number of approx. 1.000 clippings in all major newspapers, (e.g. Wall Street Journal, Financial Times etc.) we could reach 50 to 100 Mio. people worldwide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Media show positive feedback – so far, no negative coverage has been generated from the launch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New products receive positive feedback and are listed from all major operator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9" name=""/>
          <p:cNvSpPr/>
          <p:nvPr/>
        </p:nvSpPr>
        <p:spPr>
          <a:xfrm>
            <a:off x="488880" y="5516640"/>
            <a:ext cx="90979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1b15"/>
                </a:solidFill>
                <a:latin typeface="Minion"/>
                <a:ea typeface="文鼎中黑"/>
              </a:rPr>
              <a:t>Instead of focusing on negative messages, people should be proud of the new brand and the products we have launc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Minion"/>
              </a:rPr>
              <a:t>Let’s Enterprise, Again !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1" name=""/>
          <p:cNvSpPr/>
          <p:nvPr/>
        </p:nvSpPr>
        <p:spPr>
          <a:xfrm>
            <a:off x="212868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12920" y="1203120"/>
            <a:ext cx="93643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a0e66"/>
                </a:solidFill>
                <a:latin typeface="Minion"/>
              </a:rPr>
              <a:t>“</a:t>
            </a:r>
            <a:r>
              <a:rPr b="0" lang="zh-TW" sz="3000" spc="-1" strike="noStrike">
                <a:solidFill>
                  <a:srgbClr val="3a0e66"/>
                </a:solidFill>
                <a:latin typeface="Minion"/>
              </a:rPr>
              <a:t>We are not a charity” - we are hired to make profit</a:t>
            </a:r>
            <a:endParaRPr b="0" lang="en-US" sz="3000" spc="-1" strike="noStrike">
              <a:solidFill>
                <a:srgbClr val="3a0e66"/>
              </a:solidFill>
              <a:latin typeface="Minion"/>
            </a:endParaRPr>
          </a:p>
          <a:p>
            <a:pPr marL="308520" indent="-308520"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a0e66"/>
                </a:solidFill>
                <a:latin typeface="Minion"/>
              </a:rPr>
              <a:t>Seek success, create a profit zone</a:t>
            </a:r>
            <a:endParaRPr b="0" lang="en-US" sz="3000" spc="-1" strike="noStrike">
              <a:solidFill>
                <a:srgbClr val="3a0e66"/>
              </a:solidFill>
              <a:latin typeface="Minion"/>
            </a:endParaRPr>
          </a:p>
          <a:p>
            <a:pPr marL="308520" indent="-308520">
              <a:spcBef>
                <a:spcPts val="7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0e66"/>
                </a:solidFill>
                <a:latin typeface="Minion"/>
              </a:rPr>
              <a:t>All our efforts on customers and business opportunity.</a:t>
            </a:r>
            <a:endParaRPr b="0" lang="en-US" sz="3000" spc="-1" strike="noStrike">
              <a:solidFill>
                <a:srgbClr val="3a0e66"/>
              </a:solidFill>
              <a:latin typeface="Minion"/>
            </a:endParaRPr>
          </a:p>
          <a:p>
            <a:pPr marL="308520" indent="-308520">
              <a:spcBef>
                <a:spcPts val="7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a0e66"/>
                </a:solidFill>
                <a:latin typeface="Minion"/>
              </a:rPr>
              <a:t>No excuses, no blaming, no politics. Just do it!!</a:t>
            </a:r>
            <a:endParaRPr b="0" lang="en-US" sz="3000" spc="-1" strike="noStrike">
              <a:solidFill>
                <a:srgbClr val="3a0e66"/>
              </a:solidFill>
              <a:latin typeface="Minion"/>
            </a:endParaRPr>
          </a:p>
          <a:p>
            <a:pPr marL="308520" indent="-308520">
              <a:spcBef>
                <a:spcPts val="7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0e66"/>
                </a:solidFill>
                <a:latin typeface="Minion"/>
              </a:rPr>
              <a:t>Come together and work as </a:t>
            </a:r>
            <a:r>
              <a:rPr b="0" lang="en-US" sz="3000" spc="-1" strike="noStrike" u="sng">
                <a:solidFill>
                  <a:srgbClr val="3a0e66"/>
                </a:solidFill>
                <a:uFillTx/>
                <a:latin typeface="Minion"/>
              </a:rPr>
              <a:t>ONE</a:t>
            </a:r>
            <a:r>
              <a:rPr b="0" lang="en-US" sz="3000" spc="-1" strike="noStrike">
                <a:solidFill>
                  <a:srgbClr val="3a0e66"/>
                </a:solidFill>
                <a:latin typeface="Minion"/>
              </a:rPr>
              <a:t> team, </a:t>
            </a:r>
            <a:r>
              <a:rPr b="0" lang="en-US" sz="3000" spc="-1" strike="noStrike" u="sng">
                <a:solidFill>
                  <a:srgbClr val="3a0e66"/>
                </a:solidFill>
                <a:uFillTx/>
                <a:latin typeface="Minion"/>
              </a:rPr>
              <a:t>ONE</a:t>
            </a:r>
            <a:r>
              <a:rPr b="0" lang="en-US" sz="3000" spc="-1" strike="noStrike">
                <a:solidFill>
                  <a:srgbClr val="3a0e66"/>
                </a:solidFill>
                <a:latin typeface="Minion"/>
              </a:rPr>
              <a:t> culture, </a:t>
            </a:r>
            <a:r>
              <a:rPr b="0" lang="en-US" sz="3000" spc="-1" strike="noStrike" u="sng">
                <a:solidFill>
                  <a:srgbClr val="3a0e66"/>
                </a:solidFill>
                <a:uFillTx/>
                <a:latin typeface="Minion"/>
              </a:rPr>
              <a:t>ONE</a:t>
            </a:r>
            <a:r>
              <a:rPr b="0" lang="en-US" sz="3000" spc="-1" strike="noStrike">
                <a:solidFill>
                  <a:srgbClr val="3a0e66"/>
                </a:solidFill>
                <a:latin typeface="Minion"/>
              </a:rPr>
              <a:t> mind, </a:t>
            </a:r>
            <a:r>
              <a:rPr b="0" lang="en-US" sz="3000" spc="-1" strike="noStrike" u="sng">
                <a:solidFill>
                  <a:srgbClr val="3a0e66"/>
                </a:solidFill>
                <a:uFillTx/>
                <a:latin typeface="Minion"/>
              </a:rPr>
              <a:t>ONE</a:t>
            </a:r>
            <a:r>
              <a:rPr b="0" lang="en-US" sz="3000" spc="-1" strike="noStrike">
                <a:solidFill>
                  <a:srgbClr val="3a0e66"/>
                </a:solidFill>
                <a:latin typeface="Minion"/>
              </a:rPr>
              <a:t> direction and </a:t>
            </a:r>
            <a:r>
              <a:rPr b="0" lang="en-US" sz="3000" spc="-1" strike="noStrike" u="sng">
                <a:solidFill>
                  <a:srgbClr val="3a0e66"/>
                </a:solidFill>
                <a:uFillTx/>
                <a:latin typeface="Minion"/>
              </a:rPr>
              <a:t>ONE</a:t>
            </a:r>
            <a:r>
              <a:rPr b="0" lang="en-US" sz="3000" spc="-1" strike="noStrike">
                <a:solidFill>
                  <a:srgbClr val="3a0e66"/>
                </a:solidFill>
                <a:latin typeface="Minion"/>
              </a:rPr>
              <a:t> system for </a:t>
            </a:r>
            <a:r>
              <a:rPr b="0" lang="en-US" sz="3000" spc="-1" strike="noStrike" u="sng">
                <a:solidFill>
                  <a:srgbClr val="3a0e66"/>
                </a:solidFill>
                <a:uFillTx/>
                <a:latin typeface="Minion"/>
              </a:rPr>
              <a:t>ONE</a:t>
            </a:r>
            <a:r>
              <a:rPr b="0" lang="en-US" sz="3000" spc="-1" strike="noStrike">
                <a:solidFill>
                  <a:srgbClr val="3a0e66"/>
                </a:solidFill>
                <a:latin typeface="Minion"/>
              </a:rPr>
              <a:t> common goal</a:t>
            </a:r>
            <a:endParaRPr b="0" lang="en-US" sz="3000" spc="-1" strike="noStrike">
              <a:solidFill>
                <a:srgbClr val="3a0e66"/>
              </a:solidFill>
              <a:latin typeface="Minion"/>
            </a:endParaRPr>
          </a:p>
          <a:p>
            <a:pPr marL="308520" indent="-308520">
              <a:spcBef>
                <a:spcPts val="7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0e66"/>
                </a:solidFill>
                <a:latin typeface="Minion"/>
              </a:rPr>
              <a:t>Customers won‘t wait… and competitors won‘t stand still… - so just do it right away… don‘t wait… move fast!</a:t>
            </a:r>
            <a:br>
              <a:rPr sz="3000"/>
            </a:br>
            <a:r>
              <a:rPr b="0" lang="en-US" sz="3000" spc="-1" strike="noStrike">
                <a:solidFill>
                  <a:srgbClr val="fd1b15"/>
                </a:solidFill>
                <a:latin typeface="Minion"/>
              </a:rPr>
              <a:t>Go! Go! Go!</a:t>
            </a:r>
            <a:endParaRPr b="0" lang="en-US" sz="3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44520" y="549360"/>
            <a:ext cx="4176720" cy="55436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5543640"/>
              <a:gd name="textAreaBottom" fmla="*/ 5543640 h 554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170320" y="549360"/>
            <a:ext cx="4462560" cy="5543640"/>
          </a:xfrm>
          <a:custGeom>
            <a:avLst/>
            <a:gdLst>
              <a:gd name="textAreaLeft" fmla="*/ 360 w 4462560"/>
              <a:gd name="textAreaRight" fmla="*/ 4463280 w 4462560"/>
              <a:gd name="textAreaTop" fmla="*/ 0 h 5543640"/>
              <a:gd name="textAreaBottom" fmla="*/ 5543640 h 554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7960" y="333360"/>
            <a:ext cx="2141640" cy="599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900" spc="-1" strike="noStrike">
                <a:solidFill>
                  <a:srgbClr val="45008a"/>
                </a:solidFill>
                <a:latin typeface="Minion"/>
                <a:ea typeface="文鼎中黑"/>
              </a:rPr>
              <a:t>B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900" spc="-1" strike="noStrike">
                <a:solidFill>
                  <a:srgbClr val="45008a"/>
                </a:solidFill>
                <a:latin typeface="Minion"/>
                <a:ea typeface="文鼎中黑"/>
              </a:rPr>
              <a:t>E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900" spc="-1" strike="noStrike">
                <a:solidFill>
                  <a:srgbClr val="45008a"/>
                </a:solidFill>
                <a:latin typeface="Minion"/>
                <a:ea typeface="文鼎中黑"/>
              </a:rPr>
              <a:t>D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440" y="333360"/>
            <a:ext cx="2141640" cy="599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900" spc="-1" strike="noStrike">
                <a:solidFill>
                  <a:srgbClr val="45008a"/>
                </a:solidFill>
                <a:latin typeface="Minion"/>
                <a:ea typeface="文鼎中黑"/>
              </a:rPr>
              <a:t>B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900" spc="-1" strike="noStrike">
                <a:solidFill>
                  <a:srgbClr val="45008a"/>
                </a:solidFill>
                <a:latin typeface="Minion"/>
                <a:ea typeface="文鼎中黑"/>
              </a:rPr>
              <a:t>E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900" spc="-1" strike="noStrike">
                <a:solidFill>
                  <a:srgbClr val="45008a"/>
                </a:solidFill>
                <a:latin typeface="Minion"/>
                <a:ea typeface="文鼎中黑"/>
              </a:rPr>
              <a:t>D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15760" y="1268280"/>
            <a:ext cx="114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5008a"/>
                </a:solidFill>
                <a:latin typeface="Minion"/>
                <a:ea typeface="文鼎中黑"/>
              </a:rPr>
              <a:t>ac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55360" y="1268280"/>
            <a:ext cx="126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5008a"/>
                </a:solidFill>
                <a:latin typeface="Minion"/>
                <a:ea typeface="文鼎中黑"/>
              </a:rPr>
              <a:t>asi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21080" y="3252960"/>
            <a:ext cx="208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5008a"/>
                </a:solidFill>
                <a:latin typeface="Minion"/>
                <a:ea typeface="文鼎中黑"/>
              </a:rPr>
              <a:t>xecu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33680" y="3252960"/>
            <a:ext cx="281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5008a"/>
                </a:solidFill>
                <a:latin typeface="Minion"/>
                <a:ea typeface="文鼎中黑"/>
              </a:rPr>
              <a:t>xcellen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06040" y="5197320"/>
            <a:ext cx="140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5008a"/>
                </a:solidFill>
                <a:latin typeface="Minion"/>
                <a:ea typeface="文鼎中黑"/>
              </a:rPr>
              <a:t>ow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151760" y="5197320"/>
            <a:ext cx="14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5008a"/>
                </a:solidFill>
                <a:latin typeface="Minion"/>
                <a:ea typeface="文鼎中黑"/>
              </a:rPr>
              <a:t>etai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1960" y="2349360"/>
            <a:ext cx="2087640" cy="201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32160" y="2308320"/>
            <a:ext cx="1297080" cy="205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900" spc="-1" strike="noStrike">
                <a:solidFill>
                  <a:srgbClr val="45008a"/>
                </a:solidFill>
                <a:latin typeface="Minion"/>
                <a:ea typeface="文鼎中黑"/>
              </a:rPr>
              <a:t>2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Eike Boettner</cp:lastModifiedBy>
  <dcterms:modified xsi:type="dcterms:W3CDTF">2006-01-27T14:44:05Z</dcterms:modified>
  <cp:revision>108</cp:revision>
  <dc:subject/>
  <dc:title>PowerPoint 簡報</dc:title>
</cp:coreProperties>
</file>